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B8D4-8923-407A-B720-593873EC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7056-6521-410B-802A-6B0DD247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FE1-2D8D-4104-85FF-53267C14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C53-5D82-48CE-9C70-75B27E3D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16351-C7BE-458C-B6B7-E541B589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535E4-3D04-4BA1-9521-D7DCE2F7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E882D-2EF8-41EA-A84A-BAAABBAE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E0DEA-F2E7-4A22-884C-16DF1C66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0E23C-5238-4F1A-9126-5E3BF22F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216CB-4F9D-4F7A-8052-3420D92F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935C0-488E-402D-9374-A3CE8B99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E67C-3684-4627-8A94-99E6C5F3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E909C-8208-4B0A-9D8C-5170E226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D554F-E710-4750-AC40-164556CD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E2E96-5E15-4772-9829-E9740F13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851DA-F9CA-4234-87A1-C3EE9834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21557-99D9-4948-81FE-57EC7384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0891A-179B-4AD3-B166-6C275BAE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D92E3-6051-42D5-8002-4D475F57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48643-D796-4D11-930F-7181F4B8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1FDC2-BAA8-4439-A57E-85D22D08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52FF-DC5F-4706-B7F8-73AA672B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D16-05CB-4DA6-B446-4BAE6DD0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CD6C8-D17F-4572-A2F3-F1699742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A2815-CE34-4FEE-A072-5AC19A56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E8B43-C53D-4829-84D5-7F87D06A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8B074-2DB6-4D3E-AD08-D8C5BB1A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7E5BA-8649-4782-8C54-AD9C06FD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347C8-1127-4F16-804E-00B78BE4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14D2F-9499-4549-AB01-60CCBD63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F74BC5-813E-4549-A84A-37A0DF96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B7BDA7-D64C-4CEF-9041-021093FB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020C89-515B-4058-83E6-24D89F15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26CA-B848-40A6-ABAE-631B444B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4DB330-698C-4D7C-ADA2-0932E28B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4AFE56-0748-4F68-A0A7-03F68DD2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6C3E47-A526-42AA-BC8E-18D34AB1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B709B5-3E0B-48DB-A22F-C492322C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07E941-E751-4BF6-9E9F-8BB5D3A2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0A84A-4B1D-4034-A80C-1668DE27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5F57A2-BEB0-4963-A96A-D80D278A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F057F3-DFC1-4EF9-A54A-4EC1D3A0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5BBF30-482F-4BB6-AA12-304EB14D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9BE-26EF-4B0E-8EF8-2B1681D6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C88-6D6B-4FBC-B914-EFB3487A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DCA-E530-4DE1-9E2A-1446E2E9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96B-9F1D-4AD1-8B74-ABF83C9A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FD6-F917-4E8E-B737-C7FCB31B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902E-110A-4627-8E0A-2E487A013F2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FC95-A687-4EDE-9F24-8C099B7EA2F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59A3-B316-42DF-B8B9-979557C123A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3DCE-6C71-49A8-B541-E6801AAB2C4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youtube.com/watch?v=E_knSs_8m7c&amp;feature=player_embedded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7524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44d26"/>
                </a:solidFill>
                <a:latin typeface="Constantia"/>
              </a:rPr>
              <a:t>Propósito # 44: </a:t>
            </a:r>
            <a:r>
              <a:rPr b="0" lang="es-ES_tradnl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¿Qué hacemos en la playa en Puerto Rico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44d26"/>
                </a:solidFill>
                <a:latin typeface="Constantia"/>
                <a:ea typeface="Times New Roman"/>
              </a:rPr>
              <a:t>Actividad Inicial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44d26"/>
                </a:solidFill>
                <a:latin typeface="Constantia"/>
                <a:ea typeface="Times New Roman"/>
              </a:rPr>
              <a:t>-</a:t>
            </a:r>
            <a:r>
              <a:rPr b="0" lang="es-ES_tradnl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Copy and respond to the following question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2060"/>
                </a:solidFill>
                <a:latin typeface="Constantia"/>
                <a:ea typeface="Times New Roman"/>
              </a:rPr>
              <a:t>Ayer, ¿Fuiste a la tienda de la playa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2060"/>
                </a:solidFill>
                <a:latin typeface="Constantia"/>
                <a:ea typeface="Times New Roman"/>
              </a:rPr>
              <a:t>¿Qué compraste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2060"/>
                </a:solidFill>
                <a:latin typeface="Constantia"/>
                <a:ea typeface="Times New Roman"/>
              </a:rPr>
              <a:t>¿Fueron tus padres también o fuiste solo(a)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2060"/>
                </a:solidFill>
                <a:latin typeface="Constantia"/>
                <a:ea typeface="Times New Roman"/>
              </a:rPr>
              <a:t>¿Fue tu mejor amigo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5" descr=""/>
          <p:cNvPicPr/>
          <p:nvPr/>
        </p:nvPicPr>
        <p:blipFill>
          <a:blip r:embed="rId1"/>
          <a:stretch/>
        </p:blipFill>
        <p:spPr>
          <a:xfrm>
            <a:off x="225360" y="469800"/>
            <a:ext cx="869940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Rectangle 2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1"/>
          <p:cNvSpPr/>
          <p:nvPr/>
        </p:nvSpPr>
        <p:spPr>
          <a:xfrm>
            <a:off x="380880" y="1066680"/>
            <a:ext cx="84582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imes New Roman"/>
              </a:rPr>
              <a:t>Libro de texto P. 64 (Ejercicio 1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imes New Roman"/>
              </a:rPr>
              <a:t>Teresa compró la crema protecto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imes New Roman"/>
              </a:rPr>
              <a:t>5. Ellos esquiaron en el agua. Compraron los esquís en una tien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imes New Roman"/>
              </a:rPr>
              <a:t>cerca de la play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imes New Roman"/>
              </a:rPr>
              <a:t>9. Carmen miró las fo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imes New Roman"/>
              </a:rPr>
              <a:t>(Ejercicio 18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imes New Roman"/>
              </a:rPr>
              <a:t>Yo 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ffffff"/>
                </a:solidFill>
                <a:latin typeface="Times New Roman"/>
              </a:rPr>
              <a:t> a la escuela y él también 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imes New Roman"/>
              </a:rPr>
              <a:t>5. Nosotros 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ffffff"/>
                </a:solidFill>
                <a:latin typeface="Times New Roman"/>
              </a:rPr>
              <a:t> a la piscina y ellos también 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1"/>
          <a:stretch/>
        </p:blipFill>
        <p:spPr>
          <a:xfrm>
            <a:off x="298440" y="176040"/>
            <a:ext cx="8242200" cy="13543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"/>
          <p:cNvSpPr/>
          <p:nvPr/>
        </p:nvSpPr>
        <p:spPr>
          <a:xfrm>
            <a:off x="838080" y="33526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e58b6"/>
                </a:solidFill>
                <a:uFillTx/>
                <a:latin typeface="Times New Roman"/>
                <a:hlinkClick r:id="rId2"/>
              </a:rPr>
              <a:t>http://www.youtube.com/watch?v=E_knSs_8m7c&amp;feature=player_embedd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062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"/>
          <p:cNvSpPr/>
          <p:nvPr/>
        </p:nvSpPr>
        <p:spPr>
          <a:xfrm>
            <a:off x="304920" y="13716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a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2" descr="https://encrypted-tbn2.google.com/images?q=tbn:ANd9GcQlKcHpxJjIom-fLEtRD--h6eTKHUco7KnoG4-5P7DFfxbBdjE-ag"/>
          <p:cNvPicPr/>
          <p:nvPr/>
        </p:nvPicPr>
        <p:blipFill>
          <a:blip r:embed="rId2"/>
          <a:stretch/>
        </p:blipFill>
        <p:spPr>
          <a:xfrm>
            <a:off x="380880" y="1905120"/>
            <a:ext cx="1438560" cy="14382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4"/>
          <p:cNvSpPr/>
          <p:nvPr/>
        </p:nvSpPr>
        <p:spPr>
          <a:xfrm>
            <a:off x="2971800" y="1371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ri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" descr="https://encrypted-tbn0.google.com/images?q=tbn:ANd9GcRFmRttSdO2tvFT7UyqKf9itRggxGUPPxwAb3m75rLjuRwJlLh3KA"/>
          <p:cNvPicPr/>
          <p:nvPr/>
        </p:nvPicPr>
        <p:blipFill>
          <a:blip r:embed="rId3"/>
          <a:stretch/>
        </p:blipFill>
        <p:spPr>
          <a:xfrm>
            <a:off x="2590920" y="1981080"/>
            <a:ext cx="2035080" cy="15242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6248520" y="1295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res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6" descr="https://encrypted-tbn2.google.com/images?q=tbn:ANd9GcT7RtIl0ECBaPEvcboXio0hoqBzfuC1AaJw-HuQv7XoB8UBxJxN"/>
          <p:cNvPicPr/>
          <p:nvPr/>
        </p:nvPicPr>
        <p:blipFill>
          <a:blip r:embed="rId4"/>
          <a:stretch/>
        </p:blipFill>
        <p:spPr>
          <a:xfrm>
            <a:off x="6172200" y="1981080"/>
            <a:ext cx="1757520" cy="16002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8"/>
          <p:cNvSpPr/>
          <p:nvPr/>
        </p:nvSpPr>
        <p:spPr>
          <a:xfrm>
            <a:off x="1295280" y="41911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imes New Roman"/>
              </a:rPr>
              <a:t>Bañis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8" descr="https://encrypted-tbn2.google.com/images?q=tbn:ANd9GcRZHtBYzvqD4bLmcfADltHXsrnNbem-wnkAeO4QGJZm4VDfeF9x"/>
          <p:cNvPicPr/>
          <p:nvPr/>
        </p:nvPicPr>
        <p:blipFill>
          <a:blip r:embed="rId5"/>
          <a:stretch/>
        </p:blipFill>
        <p:spPr>
          <a:xfrm>
            <a:off x="1143000" y="4800600"/>
            <a:ext cx="2060640" cy="137160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0"/>
          <p:cNvSpPr/>
          <p:nvPr/>
        </p:nvSpPr>
        <p:spPr>
          <a:xfrm>
            <a:off x="6629400" y="4038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10" descr="https://encrypted-tbn0.google.com/images?q=tbn:ANd9GcSeEjRLgXFC77VRVM_DOn2EV9kxfiW8uHE0pa5Q8QWTD695XzhI"/>
          <p:cNvPicPr/>
          <p:nvPr/>
        </p:nvPicPr>
        <p:blipFill>
          <a:blip r:embed="rId6"/>
          <a:stretch/>
        </p:blipFill>
        <p:spPr>
          <a:xfrm>
            <a:off x="5867280" y="4648320"/>
            <a:ext cx="228600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xtbook P. 140-14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lently read a passage about how a young boy and his friends spend the day at the beach in Puerto Rico. After you have read silently, we will re-read as a clas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ork with a partner to create an original dialogue of how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 would spend the day at the beach with a frien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activities would you do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r ejempl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ff0000"/>
                </a:solidFill>
                <a:latin typeface="Constantia"/>
              </a:rPr>
              <a:t>Student A</a:t>
            </a:r>
            <a:r>
              <a:rPr b="0" lang="es-DO" sz="2600" spc="-1" strike="noStrike">
                <a:solidFill>
                  <a:srgbClr val="ffffff"/>
                </a:solidFill>
                <a:latin typeface="Constantia"/>
              </a:rPr>
              <a:t>: Juan, ¿qué vamos a hacer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2060"/>
                </a:solidFill>
                <a:latin typeface="Constantia"/>
              </a:rPr>
              <a:t>Student B</a:t>
            </a:r>
            <a:r>
              <a:rPr b="0" lang="es-DO" sz="2600" spc="-1" strike="noStrike">
                <a:solidFill>
                  <a:srgbClr val="ffffff"/>
                </a:solidFill>
                <a:latin typeface="Constantia"/>
              </a:rPr>
              <a:t>: ¡Yo quiero nadar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ff0000"/>
                </a:solidFill>
                <a:latin typeface="Constantia"/>
              </a:rPr>
              <a:t>Student A</a:t>
            </a:r>
            <a:r>
              <a:rPr b="0" lang="es-DO" sz="2600" spc="-1" strike="noStrike">
                <a:solidFill>
                  <a:srgbClr val="ffffff"/>
                </a:solidFill>
                <a:latin typeface="Constantia"/>
              </a:rPr>
              <a:t>: ¡Muy bien! Después, tomamos el so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2060"/>
                </a:solidFill>
                <a:latin typeface="Constantia"/>
              </a:rPr>
              <a:t>Student B</a:t>
            </a:r>
            <a:r>
              <a:rPr b="0" lang="es-DO" sz="2600" spc="-1" strike="noStrike">
                <a:solidFill>
                  <a:srgbClr val="ffffff"/>
                </a:solidFill>
                <a:latin typeface="Constantia"/>
              </a:rPr>
              <a:t>: ¡Perfecto! Quiero usar mi crema protector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sing the Venn diagram, compare and contrast Ivan’s day at the beach in Puerto Rico, and your typical day at the beach here in New York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0:17:12Z</dcterms:created>
  <dc:creator>Helen Zumaeta</dc:creator>
  <dc:description/>
  <dc:language>en-US</dc:language>
  <cp:lastModifiedBy>Leandy</cp:lastModifiedBy>
  <dcterms:modified xsi:type="dcterms:W3CDTF">2012-05-02T02:03:03Z</dcterms:modified>
  <cp:revision>64</cp:revision>
  <dc:subject/>
  <dc:title>Me llamo __________            Clase 7IM La fecha es el 14 de septiembre del 2011</dc:title>
</cp:coreProperties>
</file>